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82C582F-49D8-45B9-9F73-840F423BC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duce short term extinction ri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reduce the risk that a population on the verge of extirpation will be lost by expeditiously boosting the number of emigrating juveniles in a given brood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serve population while factors for decline are being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preserve or increase summer chum salmon populations while other factors causing decreased abundances are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recover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may be used to accelerate recovery of populations by increasing abundances in a shorter time frame than may be achievable through natura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tablish a reserve population for use if the natural population suffers a catastrophic los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programs may be used to create an additional reservoir for a particular summer chum genome to prevent loss of the entire population due to natural or anthropogenic cata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ed vacant habitat capable of supporting salm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mmer chum salmon may be reintroduced to streams where populations have been extirpated and the causes of extirpation are being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 scientific information regarding the use of supplementation in conserving natural populati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Valuable information indicating the effectiveness and effects of supplementation in recovering summer chum salmon can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1E9-1F8F-4AAD-919C-BED5F044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92E-5F23-4A7C-A2DD-B416ED69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38A-BCDC-4690-8769-D580642B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D00-1120-4B38-B27E-7AC0A82D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0257C-A9AC-4DFF-A573-464A79DD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F7971-70DF-4B57-9370-77A7BA60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2D7F3-12B8-4A00-BB0A-7F9A1B74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90F93-3558-4B27-8178-3619C1C0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1D196-3383-4800-99BA-2522086E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91509-1FE7-49EE-B1FA-C547D789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9EFAD-0A97-4785-A2A2-218A3E89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C81-8EB6-4357-B50D-A95A893D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4679C-4DF6-4693-B1AA-0D9EA7E8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6B321-DC81-438C-8FB4-D6712BFC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CAFC3-FD17-41E3-B698-C77893FC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6E370-CA8A-4546-A86E-E46B7497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EF5C6-8974-4599-A9BB-4FDDAC15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116-32CC-481D-9DCD-BEB82AE5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2B1-3EDE-4F59-BFED-A6C8C0A0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305-733D-4525-B6C1-8E4691E2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567-0382-4532-BA21-3774709D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ACD-B918-42A8-93E4-3128F1DE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49C-C5B5-4FC1-A168-265EBF72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375-9880-48A6-BBC5-79D530F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E30-6175-49EB-97BA-55AC9B28C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3F9-4B9A-4387-92A7-95C6EAD03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.gov/wdfw/fish/chum/chum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dressing the Potential E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Hatchery Interaction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the ESA-listed Species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od Canal (Washington) Summer Chum Salm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098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 Tyn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AA Fishe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ris Wel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int No Point Treaty Counc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om H. John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hington Department of Fish and Wild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68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for Competition and Behavioral Mod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 of a formal recovery program, unable to remove &gt;90% of returning hatchery chinook, coho, fall chum or pink spawners (i.e., risk of redd super-imposition and/or compet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fed or fed fall chum or pink fry released before Apr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.e., overlaps with natural outmigration tim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timing of hatchery fish is unkn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E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l chinook released from marine area netpens (i.e., potential straying of spawners into summer chum strea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ersion Mea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Fish Disease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ly protoc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acific Northwest Fish Health Protection Committee (PNFHPC 1989) and Salmonid Disease Control Policy of the Fisheries Co-managers of Washington State (NWIFC and WDFW 1998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pect prior to relea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hatchery production by WDFW or USFWS fish pathologists to certify their disease status and health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3818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version and m&amp;e measures were specified for each hatchery program and implemented beginning in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programs were rated Low risk for all catego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grams with High or Moderate risks implemented common measur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release of fall chum or pink fry until after April 1st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s of predator attraction or competition for food, or changes in feeding behavior or use of preferred migration areas by summer chum f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tinued programs releasing hatchery-origin chinook or fall chum in summer chum streams, unless part of a formal recovery program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 of competition, redd super-imposition and behavior modification with summer chum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follow fish health protocols and reporting requirements; 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pplied to several volunteer/coop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assessment process and implementation have generally been 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hatchery programs have been terminated in response to concern about hatchery inte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d changes have been done with limited effect on day-to-day hatchery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complications with loadings and pond mgt, but all do-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minated programs eased up other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volunteer coop projects are now consistent with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chery interactions measures have been incorporated in hatchery ESA 4(d) rule issued by NOAA Fish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tom 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isks to summer chum are reduc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ESA listings and concerns for recovery of wild popl’ns, there is increasing focus on potential interactions b/w hatchery and wild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and Tribal Co-managers in Washington decided to 1) identify potential negative impacts of hatcheries on ESA-listed summer chum salmon and 2) identify mitigative measures to minimize any risks to summer ch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escribe here the approach used and report on initial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999, ESA listing of Hood Canal summer chum salmon Evolutionarily Sig. Unit (ES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pril 2000, Co-managers completed the “Summer Chum Salmon Conservation Initiative, An Implementation Plan to Recover Summer Chum in the Hood Canal and Strait of Juan de Fuca Reg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a.gov/wdfw/fish/chum/chu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2, ESA 4(d) rule requirements incorporated the hatchery conservation measures identified in the SCSCI (i.e., Resource Mgt Plan – RM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8600" y="152280"/>
            <a:ext cx="5275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 (cont.)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hatcheries is long-standing and important in the Hood Canal region with WDFW, Tribal, and USFWS facilities, and cooperative projects by volunteer fish enhancement group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ery objectives include providing surplus fish for harvest, mitigation for fish production losses due to habitat degradation, and wild salmonid stock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r chinook, coho, chum, and pink salmon and steelhead; trout also, but not discuss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8915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essing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otential Risk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Hatchery Activities on Summer Ch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aid summer chum life history with release/migration timing of hatchery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hysical operation of hatche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cological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teractions b/w hatchery fish and summer chum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redation, competition/behavior modification, fish disease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380880"/>
          <a:ext cx="7924680" cy="647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880"/>
                    <a:ext cx="792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762120"/>
            <a:ext cx="8382240" cy="70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ratings for each risk catego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appropriate risk aversion (r.a.) measures for each risk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monitoring/evaluation (m&amp;e) measures to help make sure the risk aversion measures were implemented success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rated risks of each hatchery program and identified the r.a. and m&amp;e measures needed to reduce any moderate or high risk to a low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Hatchery Operation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GH ris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odstock trap on summer chum stre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 checked 2X a day or hold chum for &gt;24 hrs or not handled prope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intakes/outlets are not scree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withdrawal reduces flows w/ negative impact on summer chum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compliance with NPDES perm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1:12:48Z</dcterms:created>
  <dc:creator>TynanT</dc:creator>
  <dc:description/>
  <dc:language>en-US</dc:language>
  <cp:lastModifiedBy>Bob Smith</cp:lastModifiedBy>
  <dcterms:modified xsi:type="dcterms:W3CDTF">2004-03-19T17:19:24Z</dcterms:modified>
  <cp:revision>160</cp:revision>
  <dc:subject/>
  <dc:title>Supplementation Standards for Rebuilding Hood Canal Summer Chum Populations</dc:title>
</cp:coreProperties>
</file>